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41.png" ContentType="image/png"/>
  <Override PartName="/ppt/media/image12.png" ContentType="image/png"/>
  <Override PartName="/ppt/media/image39.png" ContentType="image/png"/>
  <Override PartName="/ppt/media/image22.jpeg" ContentType="image/jpeg"/>
  <Override PartName="/ppt/media/image9.png" ContentType="image/png"/>
  <Override PartName="/ppt/media/image40.png" ContentType="image/png"/>
  <Override PartName="/ppt/media/image7.png" ContentType="image/png"/>
  <Override PartName="/ppt/media/image37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28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F2F7-3E71-4126-BDD5-E6BE52DDE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2807-6331-45F7-88F8-276859677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2052-CC1A-45B1-B6C9-701FEC7D0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5440-20F8-4264-8E07-ACC723A5E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A2DE-9B7C-4004-97CB-C0D06AB2E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D655-3BA8-443A-897C-B0F8B5902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75F0-F3F7-42A9-BBE9-0FC7F45FB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1E53-138C-45CA-BDC9-53F48EA40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D517-17B4-4EC4-9C9B-D21870032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4C29-DF1C-49A0-9875-D222F99E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DB10-81D8-4918-8059-9AEBC59E8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B9B7-4AAB-459B-AC49-E2610D6A7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7C225-BCF4-4993-BF54-D65B2B4DCE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1219320" y="139680"/>
            <a:ext cx="4433760" cy="78613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"/>
          <p:cNvSpPr/>
          <p:nvPr/>
        </p:nvSpPr>
        <p:spPr>
          <a:xfrm>
            <a:off x="1115640" y="7924680"/>
            <a:ext cx="508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1.2.1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Lucida Grande"/>
              </a:rPr>
              <a:t>Draw a generalized prokaryotic cel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Lucida Grande"/>
              </a:rPr>
              <a:t>as seen in electron micrographs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380880" y="0"/>
            <a:ext cx="6096240" cy="592128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"/>
          <p:cNvSpPr/>
          <p:nvPr/>
        </p:nvSpPr>
        <p:spPr>
          <a:xfrm>
            <a:off x="163080" y="5867280"/>
            <a:ext cx="6621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2.2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raw a graph showing the sigmoid (S-shap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opulation growth cur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you could use “organisms” or “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” for the Y axis as well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S shape demonstrates that the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s slow, rises exponentially,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eaus at the carrying capacity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366840" y="2270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rcRect l="8403" t="0" r="7598" b="0"/>
          <a:stretch/>
        </p:blipFill>
        <p:spPr>
          <a:xfrm>
            <a:off x="533520" y="0"/>
            <a:ext cx="5973480" cy="64008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3"/>
          <p:cNvSpPr/>
          <p:nvPr/>
        </p:nvSpPr>
        <p:spPr>
          <a:xfrm>
            <a:off x="130320" y="6095880"/>
            <a:ext cx="6581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ic 5.1.4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raw a diagram of the digestiv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 sure to incl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mou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esophag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panc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oma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gall blad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mall intes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large intes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an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457200" y="1143000"/>
            <a:ext cx="22860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685800" y="5486400"/>
            <a:ext cx="22860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4038480" y="1295280"/>
            <a:ext cx="2286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3255120" y="8031240"/>
            <a:ext cx="2759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I have blanked out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tems you don’t need th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ere in this figu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" descr=""/>
          <p:cNvPicPr/>
          <p:nvPr/>
        </p:nvPicPr>
        <p:blipFill>
          <a:blip r:embed="rId1"/>
          <a:srcRect l="0" t="0" r="2805" b="36930"/>
          <a:stretch/>
        </p:blipFill>
        <p:spPr>
          <a:xfrm>
            <a:off x="0" y="0"/>
            <a:ext cx="6705720" cy="56437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4"/>
          <p:cNvSpPr/>
          <p:nvPr/>
        </p:nvSpPr>
        <p:spPr>
          <a:xfrm>
            <a:off x="222120" y="5613480"/>
            <a:ext cx="6455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2.1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raw a diagram of the heart showing all f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ambers, associated blood vessels,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al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all blood vessels connected direc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the he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relative wall thickness of cha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also: Study guide handouts Page 48 (Page ti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“The Blood System” (given out during un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6858000" cy="50277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375480" y="6553080"/>
            <a:ext cx="6124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5.4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raw a diagram of the ventilation sys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cluding trachea, bronchi, bronchiol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d lu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also study guide handout (given during un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e 51, titled “Gas Exchang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457200" y="0"/>
            <a:ext cx="6197760" cy="40035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457560" y="251460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2"/>
          <a:srcRect l="2145" t="7492" r="3398" b="12360"/>
          <a:stretch/>
        </p:blipFill>
        <p:spPr>
          <a:xfrm>
            <a:off x="914400" y="4038480"/>
            <a:ext cx="5486400" cy="37054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7"/>
          <p:cNvSpPr/>
          <p:nvPr/>
        </p:nvSpPr>
        <p:spPr>
          <a:xfrm>
            <a:off x="181800" y="7620120"/>
            <a:ext cx="6302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7.1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raw diagrams of the adult male and fem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productive system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handouts page 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tled “Reproductive Systems”  given du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241200" y="524196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m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703440" y="0"/>
            <a:ext cx="5403600" cy="79246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558720" y="7924680"/>
            <a:ext cx="596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1.3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raw the structure of a mitochondrion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n in electron micro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380880" y="0"/>
            <a:ext cx="5639040" cy="4826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380880" y="4343400"/>
            <a:ext cx="3353040" cy="29782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4"/>
          <p:cNvSpPr/>
          <p:nvPr/>
        </p:nvSpPr>
        <p:spPr>
          <a:xfrm>
            <a:off x="288720" y="8245440"/>
            <a:ext cx="637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.1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raw the structure of a chloroplast as seen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lectron micro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3928680" y="4632480"/>
            <a:ext cx="26312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 sure to inclu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thylakoid membra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gra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inner membr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outer membr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arch gr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roma contai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0s ribosomes (do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naked dna (dots 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mall circ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lipid droplet (large do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stro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-92880" y="822240"/>
            <a:ext cx="15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lorop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el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7"/>
          <p:cNvSpPr/>
          <p:nvPr/>
        </p:nvSpPr>
        <p:spPr>
          <a:xfrm flipV="1">
            <a:off x="228600" y="38088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8"/>
          <p:cNvSpPr/>
          <p:nvPr/>
        </p:nvSpPr>
        <p:spPr>
          <a:xfrm>
            <a:off x="228600" y="304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9"/>
          <p:cNvSpPr/>
          <p:nvPr/>
        </p:nvSpPr>
        <p:spPr>
          <a:xfrm flipV="1">
            <a:off x="685800" y="-36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10"/>
          <p:cNvSpPr/>
          <p:nvPr/>
        </p:nvSpPr>
        <p:spPr>
          <a:xfrm>
            <a:off x="685800" y="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11"/>
          <p:cNvSpPr/>
          <p:nvPr/>
        </p:nvSpPr>
        <p:spPr>
          <a:xfrm>
            <a:off x="685800" y="762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6159240" cy="60325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3"/>
          <p:cNvSpPr/>
          <p:nvPr/>
        </p:nvSpPr>
        <p:spPr>
          <a:xfrm>
            <a:off x="247680" y="6705720"/>
            <a:ext cx="62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2.7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raw the action spectrum of photosynth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"/>
          <p:cNvPicPr/>
          <p:nvPr/>
        </p:nvPicPr>
        <p:blipFill>
          <a:blip r:embed="rId1"/>
          <a:srcRect l="31001" t="70507" r="43002" b="13679"/>
          <a:stretch/>
        </p:blipFill>
        <p:spPr>
          <a:xfrm>
            <a:off x="380880" y="4800600"/>
            <a:ext cx="4210200" cy="37339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4"/>
          <p:cNvSpPr/>
          <p:nvPr/>
        </p:nvSpPr>
        <p:spPr>
          <a:xfrm>
            <a:off x="4555440" y="6613560"/>
            <a:ext cx="150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mat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rmat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4555440" y="8061480"/>
            <a:ext cx="150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rmat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4478400" y="5775480"/>
            <a:ext cx="180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rmatoc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7"/>
          <p:cNvSpPr/>
          <p:nvPr/>
        </p:nvSpPr>
        <p:spPr>
          <a:xfrm>
            <a:off x="3124080" y="61722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4402440" y="4632480"/>
            <a:ext cx="22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rmatogon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10"/>
          <p:cNvSpPr/>
          <p:nvPr/>
        </p:nvSpPr>
        <p:spPr>
          <a:xfrm flipH="1">
            <a:off x="3962160" y="4952880"/>
            <a:ext cx="53316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3027240" y="3794040"/>
            <a:ext cx="20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stitial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12"/>
          <p:cNvSpPr/>
          <p:nvPr/>
        </p:nvSpPr>
        <p:spPr>
          <a:xfrm flipV="1">
            <a:off x="2743200" y="4114800"/>
            <a:ext cx="38088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911520" y="8686800"/>
            <a:ext cx="31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ary spermatoc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15"/>
          <p:cNvSpPr/>
          <p:nvPr/>
        </p:nvSpPr>
        <p:spPr>
          <a:xfrm flipV="1">
            <a:off x="1066680" y="8153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6"/>
          <p:cNvSpPr/>
          <p:nvPr/>
        </p:nvSpPr>
        <p:spPr>
          <a:xfrm>
            <a:off x="-97920" y="822240"/>
            <a:ext cx="6447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.1.1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raw the structure of testis tissue as s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ing a light microsc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raw one seminiferous tubule in transve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tion with adjacent interstitial ce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w outer basement membran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rmatogonia, developing spermatozo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ertoli (nurse)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_x000c_image002.jpg                                                   0011E7FF&#13;Gina's Mac II                  BA3FA9F2:"/>
          <p:cNvPicPr/>
          <p:nvPr/>
        </p:nvPicPr>
        <p:blipFill>
          <a:blip r:embed="rId1"/>
          <a:stretch/>
        </p:blipFill>
        <p:spPr>
          <a:xfrm>
            <a:off x="266760" y="228600"/>
            <a:ext cx="6438960" cy="401004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3"/>
          <p:cNvSpPr/>
          <p:nvPr/>
        </p:nvSpPr>
        <p:spPr>
          <a:xfrm>
            <a:off x="2819520" y="0"/>
            <a:ext cx="12952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3429000" y="3733920"/>
            <a:ext cx="11430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69840" y="5181480"/>
            <a:ext cx="6531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.1.4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raw the structure of the ovary as s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ing a light microsc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how primary oocytes (primordial follic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econdary oocyte in prophase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reovulatory follic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corpus lute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how also a follicle with egg being rele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152280" y="914400"/>
            <a:ext cx="6477120" cy="48657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"/>
          <p:cNvSpPr/>
          <p:nvPr/>
        </p:nvSpPr>
        <p:spPr>
          <a:xfrm>
            <a:off x="460080" y="6994440"/>
            <a:ext cx="6022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3.1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raw a diagram to show the ult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f a generalized animal cell as seen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lectron micro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3916440"/>
          </a:xfrm>
          <a:prstGeom prst="rect">
            <a:avLst/>
          </a:prstGeom>
          <a:ln w="0">
            <a:noFill/>
          </a:ln>
        </p:spPr>
      </p:pic>
      <p:sp>
        <p:nvSpPr>
          <p:cNvPr id="120" name="Freeform 4"/>
          <p:cNvSpPr/>
          <p:nvPr/>
        </p:nvSpPr>
        <p:spPr>
          <a:xfrm>
            <a:off x="4896000" y="958680"/>
            <a:ext cx="634680" cy="98928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5090400" y="234648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6"/>
          <p:cNvSpPr/>
          <p:nvPr/>
        </p:nvSpPr>
        <p:spPr>
          <a:xfrm flipH="1" flipV="1">
            <a:off x="5105520" y="17521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7"/>
          <p:cNvSpPr/>
          <p:nvPr/>
        </p:nvSpPr>
        <p:spPr>
          <a:xfrm>
            <a:off x="4800600" y="1447920"/>
            <a:ext cx="6094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3946680" y="7223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9" descr=""/>
          <p:cNvPicPr/>
          <p:nvPr/>
        </p:nvPicPr>
        <p:blipFill>
          <a:blip r:embed="rId2"/>
          <a:stretch/>
        </p:blipFill>
        <p:spPr>
          <a:xfrm>
            <a:off x="1295280" y="3809880"/>
            <a:ext cx="4762800" cy="317520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10"/>
          <p:cNvSpPr/>
          <p:nvPr/>
        </p:nvSpPr>
        <p:spPr>
          <a:xfrm>
            <a:off x="3581280" y="4876920"/>
            <a:ext cx="228600" cy="228600"/>
          </a:xfrm>
          <a:prstGeom prst="sun">
            <a:avLst>
              <a:gd name="adj" fmla="val 4687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360" bIns="-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11"/>
          <p:cNvSpPr/>
          <p:nvPr/>
        </p:nvSpPr>
        <p:spPr>
          <a:xfrm>
            <a:off x="3809880" y="4876920"/>
            <a:ext cx="228600" cy="228600"/>
          </a:xfrm>
          <a:prstGeom prst="sun">
            <a:avLst>
              <a:gd name="adj" fmla="val 4687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360" bIns="-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12"/>
          <p:cNvSpPr/>
          <p:nvPr/>
        </p:nvSpPr>
        <p:spPr>
          <a:xfrm flipH="1" flipV="1">
            <a:off x="3429000" y="3505320"/>
            <a:ext cx="45720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13"/>
          <p:cNvSpPr/>
          <p:nvPr/>
        </p:nvSpPr>
        <p:spPr>
          <a:xfrm flipH="1" flipV="1">
            <a:off x="3428640" y="3504960"/>
            <a:ext cx="30492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4"/>
          <p:cNvSpPr/>
          <p:nvPr/>
        </p:nvSpPr>
        <p:spPr>
          <a:xfrm>
            <a:off x="2726280" y="3184560"/>
            <a:ext cx="13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i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Oval 15"/>
          <p:cNvSpPr/>
          <p:nvPr/>
        </p:nvSpPr>
        <p:spPr>
          <a:xfrm>
            <a:off x="3048120" y="5334120"/>
            <a:ext cx="7596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Freeform 17"/>
          <p:cNvSpPr/>
          <p:nvPr/>
        </p:nvSpPr>
        <p:spPr>
          <a:xfrm>
            <a:off x="3019320" y="5137200"/>
            <a:ext cx="171720" cy="7048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905120" y="54864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9"/>
          <p:cNvSpPr/>
          <p:nvPr/>
        </p:nvSpPr>
        <p:spPr>
          <a:xfrm>
            <a:off x="832320" y="5045040"/>
            <a:ext cx="137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po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20"/>
          <p:cNvSpPr/>
          <p:nvPr/>
        </p:nvSpPr>
        <p:spPr>
          <a:xfrm>
            <a:off x="1219320" y="6172200"/>
            <a:ext cx="12952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21"/>
          <p:cNvSpPr/>
          <p:nvPr/>
        </p:nvSpPr>
        <p:spPr>
          <a:xfrm>
            <a:off x="1049760" y="623268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ploid 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4038480" y="6019920"/>
            <a:ext cx="7632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24"/>
          <p:cNvSpPr/>
          <p:nvPr/>
        </p:nvSpPr>
        <p:spPr>
          <a:xfrm>
            <a:off x="3106440" y="7451640"/>
            <a:ext cx="225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ytoplasm (yol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25"/>
          <p:cNvSpPr/>
          <p:nvPr/>
        </p:nvSpPr>
        <p:spPr>
          <a:xfrm flipH="1">
            <a:off x="3047760" y="617220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26"/>
          <p:cNvSpPr/>
          <p:nvPr/>
        </p:nvSpPr>
        <p:spPr>
          <a:xfrm>
            <a:off x="2061000" y="6629400"/>
            <a:ext cx="121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27"/>
          <p:cNvSpPr/>
          <p:nvPr/>
        </p:nvSpPr>
        <p:spPr>
          <a:xfrm>
            <a:off x="5105520" y="5638680"/>
            <a:ext cx="6858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28"/>
          <p:cNvSpPr/>
          <p:nvPr/>
        </p:nvSpPr>
        <p:spPr>
          <a:xfrm>
            <a:off x="5735520" y="4419720"/>
            <a:ext cx="1047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lli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29"/>
          <p:cNvSpPr/>
          <p:nvPr/>
        </p:nvSpPr>
        <p:spPr>
          <a:xfrm>
            <a:off x="4876920" y="6400800"/>
            <a:ext cx="12952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lluc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30"/>
          <p:cNvSpPr/>
          <p:nvPr/>
        </p:nvSpPr>
        <p:spPr>
          <a:xfrm>
            <a:off x="1219320" y="3809880"/>
            <a:ext cx="1371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31"/>
          <p:cNvSpPr/>
          <p:nvPr/>
        </p:nvSpPr>
        <p:spPr>
          <a:xfrm>
            <a:off x="1468440" y="3048120"/>
            <a:ext cx="1047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lli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33"/>
          <p:cNvSpPr/>
          <p:nvPr/>
        </p:nvSpPr>
        <p:spPr>
          <a:xfrm>
            <a:off x="172440" y="8137440"/>
            <a:ext cx="65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.1.6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raw the structure of a mature sperm and eg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also handout p 92 titled “Gamet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392040" y="139680"/>
            <a:ext cx="6237360" cy="7480440"/>
          </a:xfrm>
          <a:prstGeom prst="rect">
            <a:avLst/>
          </a:prstGeom>
          <a:ln w="0">
            <a:noFill/>
          </a:ln>
        </p:spPr>
      </p:pic>
      <p:sp>
        <p:nvSpPr>
          <p:cNvPr id="148" name="Oval 3"/>
          <p:cNvSpPr/>
          <p:nvPr/>
        </p:nvSpPr>
        <p:spPr>
          <a:xfrm>
            <a:off x="3533760" y="7238880"/>
            <a:ext cx="3049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3886200" y="5867280"/>
            <a:ext cx="2666880" cy="533520"/>
          </a:xfrm>
          <a:prstGeom prst="rect">
            <a:avLst/>
          </a:prstGeom>
          <a:solidFill>
            <a:srgbClr val="e1bd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or end p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Oval 6"/>
          <p:cNvSpPr/>
          <p:nvPr/>
        </p:nvSpPr>
        <p:spPr>
          <a:xfrm>
            <a:off x="3124080" y="7391520"/>
            <a:ext cx="3049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Oval 7"/>
          <p:cNvSpPr/>
          <p:nvPr/>
        </p:nvSpPr>
        <p:spPr>
          <a:xfrm>
            <a:off x="2819520" y="7391520"/>
            <a:ext cx="3045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Oval 8"/>
          <p:cNvSpPr/>
          <p:nvPr/>
        </p:nvSpPr>
        <p:spPr>
          <a:xfrm>
            <a:off x="2209680" y="7391520"/>
            <a:ext cx="3049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Oval 9"/>
          <p:cNvSpPr/>
          <p:nvPr/>
        </p:nvSpPr>
        <p:spPr>
          <a:xfrm>
            <a:off x="1828800" y="6629400"/>
            <a:ext cx="3049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Oval 10"/>
          <p:cNvSpPr/>
          <p:nvPr/>
        </p:nvSpPr>
        <p:spPr>
          <a:xfrm>
            <a:off x="2514600" y="7391520"/>
            <a:ext cx="3049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1"/>
          <p:cNvSpPr/>
          <p:nvPr/>
        </p:nvSpPr>
        <p:spPr>
          <a:xfrm>
            <a:off x="-82080" y="7467480"/>
            <a:ext cx="7046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.1.2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raw the structure of a motor neu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:  dendrites, cell body with nucleu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ongated axon, myelin sheath, nodes of Ranvi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or end pl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13"/>
          <p:cNvSpPr/>
          <p:nvPr/>
        </p:nvSpPr>
        <p:spPr>
          <a:xfrm flipH="1" flipV="1">
            <a:off x="4648320" y="1981080"/>
            <a:ext cx="761760" cy="1526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rcRect l="7777" t="0" r="0" b="0"/>
          <a:stretch/>
        </p:blipFill>
        <p:spPr>
          <a:xfrm>
            <a:off x="0" y="457200"/>
            <a:ext cx="6858000" cy="394344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3"/>
          <p:cNvSpPr/>
          <p:nvPr/>
        </p:nvSpPr>
        <p:spPr>
          <a:xfrm>
            <a:off x="147960" y="4419720"/>
            <a:ext cx="6555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.2.3 Draw a diagram of the human elbow j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sure to incl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cartil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ynovial fluid ( around jo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tend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liga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bones (ul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bic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tric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able to identify the antagonistic muscle p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iceps &amp; tricep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also study guide handout p 102 “Muscl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ts, and locomotion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rcRect l="0" t="0" r="4776" b="0"/>
          <a:stretch/>
        </p:blipFill>
        <p:spPr>
          <a:xfrm>
            <a:off x="0" y="214200"/>
            <a:ext cx="6858000" cy="483552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3"/>
          <p:cNvSpPr/>
          <p:nvPr/>
        </p:nvSpPr>
        <p:spPr>
          <a:xfrm>
            <a:off x="297720" y="5181480"/>
            <a:ext cx="6346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.2.5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raw the structure of skeletal muscle fi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 seen in electron micro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clude &amp; lab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sarcom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dark b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light b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sarcopla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endoplasmic reticul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mitochond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2"/>
          <a:srcRect l="12213" t="56292" r="23669" b="30963"/>
          <a:stretch/>
        </p:blipFill>
        <p:spPr>
          <a:xfrm>
            <a:off x="1066680" y="838080"/>
            <a:ext cx="472464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1"/>
          <a:srcRect l="20385" t="0" r="6924" b="41752"/>
          <a:stretch/>
        </p:blipFill>
        <p:spPr>
          <a:xfrm>
            <a:off x="0" y="0"/>
            <a:ext cx="6858000" cy="653256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3"/>
          <p:cNvSpPr/>
          <p:nvPr/>
        </p:nvSpPr>
        <p:spPr>
          <a:xfrm>
            <a:off x="663840" y="6324480"/>
            <a:ext cx="4978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.2.1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raw the structure of the kid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co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medu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renal pelv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ur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renal blood vess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" name="AutoShape 4"/>
          <p:cNvCxnSpPr/>
          <p:nvPr/>
        </p:nvCxnSpPr>
        <p:spPr>
          <a:xfrm>
            <a:off x="-360" y="326664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65" name="AutoShape 6"/>
          <p:cNvSpPr/>
          <p:nvPr/>
        </p:nvSpPr>
        <p:spPr>
          <a:xfrm>
            <a:off x="2362320" y="30481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2060640" y="3139920"/>
            <a:ext cx="91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lv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1"/>
          <a:srcRect l="5259" t="0" r="0" b="0"/>
          <a:stretch/>
        </p:blipFill>
        <p:spPr>
          <a:xfrm>
            <a:off x="0" y="228600"/>
            <a:ext cx="6858000" cy="477036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3"/>
          <p:cNvSpPr/>
          <p:nvPr/>
        </p:nvSpPr>
        <p:spPr>
          <a:xfrm>
            <a:off x="208800" y="5546880"/>
            <a:ext cx="58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.2.2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raw the structure of a glomerulus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sociated neph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2516400" y="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ph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rcRect l="0" t="0" r="0" b="4348"/>
          <a:stretch/>
        </p:blipFill>
        <p:spPr>
          <a:xfrm>
            <a:off x="838080" y="0"/>
            <a:ext cx="5321520" cy="701028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3"/>
          <p:cNvSpPr/>
          <p:nvPr/>
        </p:nvSpPr>
        <p:spPr>
          <a:xfrm>
            <a:off x="-96840" y="7010280"/>
            <a:ext cx="660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.1.2 Draw a diagram to show the external part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amed dicotyledonous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root, stem, leaf, axillary bu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al b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4038480" y="5105520"/>
            <a:ext cx="762120" cy="3045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4013280" y="127080"/>
            <a:ext cx="1447560" cy="3808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1397160" y="2971800"/>
            <a:ext cx="1447560" cy="3808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3835440" y="3352680"/>
            <a:ext cx="1066680" cy="3812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4724280" y="1905120"/>
            <a:ext cx="1067040" cy="3045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0" y="1482840"/>
            <a:ext cx="6858000" cy="14126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"/>
          <p:cNvPicPr/>
          <p:nvPr/>
        </p:nvPicPr>
        <p:blipFill>
          <a:blip r:embed="rId2"/>
          <a:srcRect l="9835" t="69291" r="71252" b="6582"/>
          <a:stretch/>
        </p:blipFill>
        <p:spPr>
          <a:xfrm>
            <a:off x="380880" y="2819520"/>
            <a:ext cx="3810240" cy="335268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4"/>
          <p:cNvSpPr/>
          <p:nvPr/>
        </p:nvSpPr>
        <p:spPr>
          <a:xfrm>
            <a:off x="4174200" y="310824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scular bu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4174560" y="4479840"/>
            <a:ext cx="131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s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mb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717000" y="5622840"/>
            <a:ext cx="179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=xy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ue=phlo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97560" y="432756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8"/>
          <p:cNvSpPr/>
          <p:nvPr/>
        </p:nvSpPr>
        <p:spPr>
          <a:xfrm>
            <a:off x="1828800" y="5867280"/>
            <a:ext cx="228600" cy="838440"/>
          </a:xfrm>
          <a:prstGeom prst="upArrow">
            <a:avLst>
              <a:gd name="adj1" fmla="val 50000"/>
              <a:gd name="adj2" fmla="val 9169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1354680" y="6613560"/>
            <a:ext cx="13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piderm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10"/>
          <p:cNvSpPr/>
          <p:nvPr/>
        </p:nvSpPr>
        <p:spPr>
          <a:xfrm>
            <a:off x="2286000" y="4648320"/>
            <a:ext cx="304920" cy="1676160"/>
          </a:xfrm>
          <a:prstGeom prst="upArrow">
            <a:avLst>
              <a:gd name="adj1" fmla="val 50000"/>
              <a:gd name="adj2" fmla="val 13742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1"/>
          <p:cNvSpPr/>
          <p:nvPr/>
        </p:nvSpPr>
        <p:spPr>
          <a:xfrm>
            <a:off x="2575440" y="600408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2"/>
          <p:cNvSpPr/>
          <p:nvPr/>
        </p:nvSpPr>
        <p:spPr>
          <a:xfrm flipH="1">
            <a:off x="1066680" y="5334120"/>
            <a:ext cx="5335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579600" y="577548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16" descr=""/>
          <p:cNvPicPr/>
          <p:nvPr/>
        </p:nvPicPr>
        <p:blipFill>
          <a:blip r:embed="rId3"/>
          <a:stretch/>
        </p:blipFill>
        <p:spPr>
          <a:xfrm>
            <a:off x="2438280" y="7074000"/>
            <a:ext cx="4038840" cy="2070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17"/>
          <p:cNvSpPr/>
          <p:nvPr/>
        </p:nvSpPr>
        <p:spPr>
          <a:xfrm>
            <a:off x="5337000" y="716292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8"/>
          <p:cNvSpPr/>
          <p:nvPr/>
        </p:nvSpPr>
        <p:spPr>
          <a:xfrm>
            <a:off x="46800" y="1050840"/>
            <a:ext cx="9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19"/>
          <p:cNvSpPr/>
          <p:nvPr/>
        </p:nvSpPr>
        <p:spPr>
          <a:xfrm>
            <a:off x="533520" y="28447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20"/>
          <p:cNvSpPr/>
          <p:nvPr/>
        </p:nvSpPr>
        <p:spPr>
          <a:xfrm>
            <a:off x="2286000" y="2844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1"/>
          <p:cNvSpPr/>
          <p:nvPr/>
        </p:nvSpPr>
        <p:spPr>
          <a:xfrm>
            <a:off x="0" y="3352680"/>
            <a:ext cx="9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AutoShape 23"/>
          <p:cNvSpPr/>
          <p:nvPr/>
        </p:nvSpPr>
        <p:spPr>
          <a:xfrm>
            <a:off x="431640" y="2971800"/>
            <a:ext cx="76320" cy="457200"/>
          </a:xfrm>
          <a:prstGeom prst="upArrow">
            <a:avLst>
              <a:gd name="adj1" fmla="val 50000"/>
              <a:gd name="adj2" fmla="val 1497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24"/>
          <p:cNvSpPr/>
          <p:nvPr/>
        </p:nvSpPr>
        <p:spPr>
          <a:xfrm>
            <a:off x="-99000" y="60480"/>
            <a:ext cx="693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.1.3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raw plan diagrams to show the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f tissues in stem, root, and leaf of a general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cotyledonous plan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istribution of tissues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ular structu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534816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4"/>
          <p:cNvSpPr/>
          <p:nvPr/>
        </p:nvSpPr>
        <p:spPr>
          <a:xfrm>
            <a:off x="76320" y="2133720"/>
            <a:ext cx="1218960" cy="380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4267080" y="2133720"/>
            <a:ext cx="1219320" cy="380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8"/>
          <p:cNvSpPr/>
          <p:nvPr/>
        </p:nvSpPr>
        <p:spPr>
          <a:xfrm>
            <a:off x="254160" y="2641680"/>
            <a:ext cx="1218960" cy="380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a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9"/>
          <p:cNvSpPr/>
          <p:nvPr/>
        </p:nvSpPr>
        <p:spPr>
          <a:xfrm>
            <a:off x="4267080" y="3886200"/>
            <a:ext cx="9907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1"/>
          <p:cNvSpPr/>
          <p:nvPr/>
        </p:nvSpPr>
        <p:spPr>
          <a:xfrm>
            <a:off x="2314800" y="35812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2"/>
          <p:cNvSpPr/>
          <p:nvPr/>
        </p:nvSpPr>
        <p:spPr>
          <a:xfrm>
            <a:off x="2955960" y="28908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3"/>
          <p:cNvSpPr/>
          <p:nvPr/>
        </p:nvSpPr>
        <p:spPr>
          <a:xfrm>
            <a:off x="401040" y="5794200"/>
            <a:ext cx="585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.3.1 Draw the structure of a dicotyledono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imal-pollinated flower, as seen 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aked eye and hand l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mit diagram to sepal, peta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ther, filament, stigma, styl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d ov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3" descr=""/>
          <p:cNvPicPr/>
          <p:nvPr/>
        </p:nvPicPr>
        <p:blipFill>
          <a:blip r:embed="rId1"/>
          <a:srcRect l="0" t="0" r="44445" b="0"/>
          <a:stretch/>
        </p:blipFill>
        <p:spPr>
          <a:xfrm>
            <a:off x="1295280" y="304920"/>
            <a:ext cx="4114800" cy="37116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4"/>
          <p:cNvSpPr/>
          <p:nvPr/>
        </p:nvSpPr>
        <p:spPr>
          <a:xfrm>
            <a:off x="-68760" y="6130800"/>
            <a:ext cx="6776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.3.4  Draw the external and internal structure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amed dicotyledonous seed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on-endospermi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t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microp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embryo root (radic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embryo shoot (plumu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cotyled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914400" y="838080"/>
            <a:ext cx="7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6" descr=""/>
          <p:cNvPicPr/>
          <p:nvPr/>
        </p:nvPicPr>
        <p:blipFill>
          <a:blip r:embed="rId2"/>
          <a:stretch/>
        </p:blipFill>
        <p:spPr>
          <a:xfrm>
            <a:off x="457200" y="3733920"/>
            <a:ext cx="6019920" cy="244620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7"/>
          <p:cNvSpPr/>
          <p:nvPr/>
        </p:nvSpPr>
        <p:spPr>
          <a:xfrm>
            <a:off x="4267080" y="5715000"/>
            <a:ext cx="19051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4330800" y="593640"/>
            <a:ext cx="178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4483080" y="3946680"/>
            <a:ext cx="170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"/>
          <p:cNvPicPr/>
          <p:nvPr/>
        </p:nvPicPr>
        <p:blipFill>
          <a:blip r:embed="rId1"/>
          <a:srcRect l="0" t="2330" r="0" b="0"/>
          <a:stretch/>
        </p:blipFill>
        <p:spPr>
          <a:xfrm>
            <a:off x="0" y="0"/>
            <a:ext cx="6858000" cy="49402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-39240" y="5003640"/>
            <a:ext cx="6750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4.1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raw a diagram to show the fluid mosaic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f a biological membr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include and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ing these n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phospholipid bilayer (point out hydrophi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 and hydrophobic tai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glycoprote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integral prote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peripheral prote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sure to use ter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asma membra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no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 surface membr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"/>
          <p:cNvPicPr/>
          <p:nvPr/>
        </p:nvPicPr>
        <p:blipFill>
          <a:blip r:embed="rId1"/>
          <a:srcRect l="0" t="0" r="4377" b="0"/>
          <a:stretch/>
        </p:blipFill>
        <p:spPr>
          <a:xfrm>
            <a:off x="0" y="228600"/>
            <a:ext cx="6858000" cy="494172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3"/>
          <p:cNvSpPr/>
          <p:nvPr/>
        </p:nvSpPr>
        <p:spPr>
          <a:xfrm>
            <a:off x="613800" y="5410080"/>
            <a:ext cx="525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.4.5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raw a diagram of a nitrogen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clude the processe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nitrogen fix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denitr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nitr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fee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excr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root absor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decay (ammonific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"/>
          <p:cNvPicPr/>
          <p:nvPr/>
        </p:nvPicPr>
        <p:blipFill>
          <a:blip r:embed="rId1"/>
          <a:srcRect l="0" t="0" r="51041" b="1189"/>
          <a:stretch/>
        </p:blipFill>
        <p:spPr>
          <a:xfrm>
            <a:off x="812880" y="431640"/>
            <a:ext cx="5008320" cy="632484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3"/>
          <p:cNvSpPr/>
          <p:nvPr/>
        </p:nvSpPr>
        <p:spPr>
          <a:xfrm>
            <a:off x="195840" y="6845400"/>
            <a:ext cx="6361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.1.4 Draw a diagram of the hypothalamus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ituitary g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clude: portal vein, neurosecretory cell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ypothalamus, anterior pituitary, post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ituit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838080" y="2971800"/>
            <a:ext cx="1524240" cy="685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762120" y="1523880"/>
            <a:ext cx="2057400" cy="990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1727280" y="685800"/>
            <a:ext cx="1600200" cy="609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762120" y="3657600"/>
            <a:ext cx="1676160" cy="685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4724280" y="4038480"/>
            <a:ext cx="134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eri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tuit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3" descr=""/>
          <p:cNvPicPr/>
          <p:nvPr/>
        </p:nvPicPr>
        <p:blipFill>
          <a:blip r:embed="rId1"/>
          <a:srcRect l="0" t="0" r="52003" b="0"/>
          <a:stretch/>
        </p:blipFill>
        <p:spPr>
          <a:xfrm>
            <a:off x="1371600" y="457200"/>
            <a:ext cx="4164120" cy="679464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4"/>
          <p:cNvSpPr/>
          <p:nvPr/>
        </p:nvSpPr>
        <p:spPr>
          <a:xfrm>
            <a:off x="3718800" y="234648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5"/>
          <p:cNvSpPr/>
          <p:nvPr/>
        </p:nvSpPr>
        <p:spPr>
          <a:xfrm>
            <a:off x="3276720" y="269244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4706280" y="3413160"/>
            <a:ext cx="193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retory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7"/>
          <p:cNvSpPr/>
          <p:nvPr/>
        </p:nvSpPr>
        <p:spPr>
          <a:xfrm>
            <a:off x="4495680" y="38098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8"/>
          <p:cNvSpPr/>
          <p:nvPr/>
        </p:nvSpPr>
        <p:spPr>
          <a:xfrm flipH="1">
            <a:off x="1447560" y="3809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9"/>
          <p:cNvSpPr/>
          <p:nvPr/>
        </p:nvSpPr>
        <p:spPr>
          <a:xfrm>
            <a:off x="1447920" y="38098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0"/>
          <p:cNvSpPr/>
          <p:nvPr/>
        </p:nvSpPr>
        <p:spPr>
          <a:xfrm>
            <a:off x="1447920" y="4952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11"/>
          <p:cNvSpPr/>
          <p:nvPr/>
        </p:nvSpPr>
        <p:spPr>
          <a:xfrm flipH="1">
            <a:off x="1066320" y="4343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12"/>
          <p:cNvSpPr/>
          <p:nvPr/>
        </p:nvSpPr>
        <p:spPr>
          <a:xfrm>
            <a:off x="533880" y="394668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in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13"/>
          <p:cNvSpPr/>
          <p:nvPr/>
        </p:nvSpPr>
        <p:spPr>
          <a:xfrm flipH="1">
            <a:off x="3352320" y="2666880"/>
            <a:ext cx="121932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14"/>
          <p:cNvSpPr/>
          <p:nvPr/>
        </p:nvSpPr>
        <p:spPr>
          <a:xfrm>
            <a:off x="22096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15"/>
          <p:cNvSpPr/>
          <p:nvPr/>
        </p:nvSpPr>
        <p:spPr>
          <a:xfrm>
            <a:off x="2209680" y="59436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16"/>
          <p:cNvSpPr/>
          <p:nvPr/>
        </p:nvSpPr>
        <p:spPr>
          <a:xfrm flipV="1">
            <a:off x="5562720" y="46483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17"/>
          <p:cNvSpPr/>
          <p:nvPr/>
        </p:nvSpPr>
        <p:spPr>
          <a:xfrm flipH="1">
            <a:off x="4723920" y="46483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18"/>
          <p:cNvSpPr/>
          <p:nvPr/>
        </p:nvSpPr>
        <p:spPr>
          <a:xfrm>
            <a:off x="5622840" y="508968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19"/>
          <p:cNvSpPr/>
          <p:nvPr/>
        </p:nvSpPr>
        <p:spPr>
          <a:xfrm>
            <a:off x="44640" y="7756560"/>
            <a:ext cx="674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.2.2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raw the structural features of exocrine gl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cluding secretory cells grouped into acin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d 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4267440" cy="302904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3"/>
          <p:cNvSpPr/>
          <p:nvPr/>
        </p:nvSpPr>
        <p:spPr>
          <a:xfrm>
            <a:off x="301680" y="7162920"/>
            <a:ext cx="6342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.3.1  Draw a portion of the ileum (in transve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tion as seen under a light microscop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clude mucosa, outer longitud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cle layer, inner circular mus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yer, mucosa, and vill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1980720" y="6553080"/>
            <a:ext cx="35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ransverse section dra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Freeform 8"/>
          <p:cNvSpPr/>
          <p:nvPr/>
        </p:nvSpPr>
        <p:spPr>
          <a:xfrm>
            <a:off x="2384280" y="3654360"/>
            <a:ext cx="2308320" cy="22478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Freeform 9"/>
          <p:cNvSpPr/>
          <p:nvPr/>
        </p:nvSpPr>
        <p:spPr>
          <a:xfrm>
            <a:off x="2508120" y="3784680"/>
            <a:ext cx="2001960" cy="20224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Freeform 10"/>
          <p:cNvSpPr/>
          <p:nvPr/>
        </p:nvSpPr>
        <p:spPr>
          <a:xfrm>
            <a:off x="2643120" y="3965400"/>
            <a:ext cx="1711440" cy="1686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Freeform 11"/>
          <p:cNvSpPr/>
          <p:nvPr/>
        </p:nvSpPr>
        <p:spPr>
          <a:xfrm>
            <a:off x="2905200" y="4172040"/>
            <a:ext cx="1189080" cy="12477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2"/>
          <p:cNvSpPr/>
          <p:nvPr/>
        </p:nvSpPr>
        <p:spPr>
          <a:xfrm>
            <a:off x="1676520" y="4800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13"/>
          <p:cNvSpPr/>
          <p:nvPr/>
        </p:nvSpPr>
        <p:spPr>
          <a:xfrm flipV="1">
            <a:off x="1676520" y="4495320"/>
            <a:ext cx="1523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14"/>
          <p:cNvSpPr/>
          <p:nvPr/>
        </p:nvSpPr>
        <p:spPr>
          <a:xfrm>
            <a:off x="1142280" y="4556160"/>
            <a:ext cx="67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l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15"/>
          <p:cNvSpPr/>
          <p:nvPr/>
        </p:nvSpPr>
        <p:spPr>
          <a:xfrm>
            <a:off x="4419720" y="5334120"/>
            <a:ext cx="6858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16"/>
          <p:cNvSpPr/>
          <p:nvPr/>
        </p:nvSpPr>
        <p:spPr>
          <a:xfrm>
            <a:off x="5088240" y="5394240"/>
            <a:ext cx="165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itud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17"/>
          <p:cNvSpPr/>
          <p:nvPr/>
        </p:nvSpPr>
        <p:spPr>
          <a:xfrm flipV="1">
            <a:off x="4394160" y="434304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18"/>
          <p:cNvSpPr/>
          <p:nvPr/>
        </p:nvSpPr>
        <p:spPr>
          <a:xfrm>
            <a:off x="5240880" y="3733920"/>
            <a:ext cx="111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r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19"/>
          <p:cNvSpPr/>
          <p:nvPr/>
        </p:nvSpPr>
        <p:spPr>
          <a:xfrm flipH="1">
            <a:off x="1752120" y="518148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20"/>
          <p:cNvSpPr/>
          <p:nvPr/>
        </p:nvSpPr>
        <p:spPr>
          <a:xfrm>
            <a:off x="746640" y="55468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co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21"/>
          <p:cNvSpPr/>
          <p:nvPr/>
        </p:nvSpPr>
        <p:spPr>
          <a:xfrm flipV="1">
            <a:off x="3505320" y="3809880"/>
            <a:ext cx="9144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22"/>
          <p:cNvSpPr/>
          <p:nvPr/>
        </p:nvSpPr>
        <p:spPr>
          <a:xfrm>
            <a:off x="4098960" y="34290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23"/>
          <p:cNvSpPr/>
          <p:nvPr/>
        </p:nvSpPr>
        <p:spPr>
          <a:xfrm>
            <a:off x="5012640" y="441360"/>
            <a:ext cx="166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YI: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rosc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1066680"/>
            <a:ext cx="6858000" cy="3915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3"/>
          <p:cNvSpPr/>
          <p:nvPr/>
        </p:nvSpPr>
        <p:spPr>
          <a:xfrm>
            <a:off x="308520" y="5546880"/>
            <a:ext cx="586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2.2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raw the basic structure of a general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ino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etails about the R grou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1523880" y="380880"/>
            <a:ext cx="3568680" cy="3746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457560" y="213372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luc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2"/>
          <a:srcRect l="0" t="0" r="0" b="11998"/>
          <a:stretch/>
        </p:blipFill>
        <p:spPr>
          <a:xfrm>
            <a:off x="990720" y="4114800"/>
            <a:ext cx="4114800" cy="32734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519120" y="539424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ib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324000" y="7604280"/>
            <a:ext cx="63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2.3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raw the ring structure of glucose and rib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5791320" cy="41086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227520" y="4419720"/>
            <a:ext cx="534564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---(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-----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4"/>
          <p:cNvSpPr/>
          <p:nvPr/>
        </p:nvSpPr>
        <p:spPr>
          <a:xfrm flipV="1">
            <a:off x="4267080" y="4695840"/>
            <a:ext cx="838440" cy="3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5"/>
          <p:cNvSpPr/>
          <p:nvPr/>
        </p:nvSpPr>
        <p:spPr>
          <a:xfrm flipV="1">
            <a:off x="4276800" y="480024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6"/>
          <p:cNvSpPr/>
          <p:nvPr/>
        </p:nvSpPr>
        <p:spPr>
          <a:xfrm>
            <a:off x="4238640" y="5286240"/>
            <a:ext cx="590400" cy="29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873000" y="6492960"/>
            <a:ext cx="545112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2.4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raw the structure of glyc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d a generalized fatty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don’t forget the “n” after the (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n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ed fatty acid (n means, could 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number of that part of the molecu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743760" y="569916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ralized fatty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rcRect l="14671" t="36591" r="14671" b="14636"/>
          <a:stretch/>
        </p:blipFill>
        <p:spPr>
          <a:xfrm>
            <a:off x="152280" y="609480"/>
            <a:ext cx="6477120" cy="35593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1675800" y="4343400"/>
            <a:ext cx="32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generalized dipept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283680" y="5546880"/>
            <a:ext cx="566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2.4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raw the structure of a general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peptide, showing the peptide lin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rcRect l="26899" t="0" r="25521" b="2174"/>
          <a:stretch/>
        </p:blipFill>
        <p:spPr>
          <a:xfrm>
            <a:off x="2514600" y="0"/>
            <a:ext cx="3879720" cy="52578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"/>
          <p:cNvSpPr/>
          <p:nvPr/>
        </p:nvSpPr>
        <p:spPr>
          <a:xfrm>
            <a:off x="-2520" y="5168880"/>
            <a:ext cx="6985440" cy="40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4.5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raw a simple diagram of the molecul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tructure of 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how complementary C:G and A:T pai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identify hydrogen bonds (hold bases togeth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number of H-bonds between complemen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s not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details of base structure not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diagram can be simple, just remember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and G are double rings; C and T are single r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gar phosphate backbone goes on outside of “ladde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ases are the “rungs of the ladde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ydrogen bonds between bases are in very ce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417960" y="76320"/>
            <a:ext cx="18676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 to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hydro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nds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Bases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en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Su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sph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bone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sphates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rcRect l="3478" t="7787" r="2610" b="7088"/>
          <a:stretch/>
        </p:blipFill>
        <p:spPr>
          <a:xfrm>
            <a:off x="0" y="457200"/>
            <a:ext cx="6858000" cy="41623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-4320" y="4572000"/>
            <a:ext cx="6892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1.14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raw the carbon cycle to show the 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volv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 sure to inclu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photosynth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respi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fossi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you could substitute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d “fossilization”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areous sediments” ab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combustion (burning of foss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el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103680" y="5689440"/>
            <a:ext cx="2410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int is to sh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terac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ving organis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d the biosp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rough 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f photosynthesi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spirat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ssilization 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bu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76320" y="5715000"/>
            <a:ext cx="2514600" cy="32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5T14:58:11Z</dcterms:created>
  <dc:creator>Gerard D'Angelo</dc:creator>
  <dc:description/>
  <dc:language>en-US</dc:language>
  <cp:lastModifiedBy>Internet</cp:lastModifiedBy>
  <dcterms:modified xsi:type="dcterms:W3CDTF">2011-04-25T17:31:46Z</dcterms:modified>
  <cp:revision>61</cp:revision>
  <dc:subject/>
  <dc:title>PowerPoint Presentation</dc:title>
</cp:coreProperties>
</file>